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WHOOSH.WAV" ContentType="audio/x-wav"/>
  <Override PartName="/ppt/media/image4.wmf" ContentType="image/x-wmf"/>
  <Override PartName="/ppt/media/image5.png" ContentType="image/png"/>
  <Override PartName="/ppt/media/image6.png" ContentType="image/png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6937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000480" y="-360"/>
            <a:ext cx="8571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040" y="434304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67160"/>
            <a:ext cx="6508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6495840" y="8867160"/>
            <a:ext cx="36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6AE5F-7840-4736-AC8E-87D46CD38E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5699A-884A-4A0B-8FFE-BCA2AF7462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3429000" y="240048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192200"/>
            <a:ext cx="12002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C70C2-315B-4171-B784-7C1F76DD85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3429000" y="240048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192200"/>
            <a:ext cx="12002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661BE-90D5-465A-883A-894FFD772A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3429000" y="240048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192200"/>
            <a:ext cx="12002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9844-4862-4AFD-AE5A-79EA290EF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4199-6050-4223-BFCA-126DE165A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ACDA-41C6-4948-8F89-22983F8B9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E322-09BF-40B6-86AF-3D4CD5659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0487-9CCD-460F-AC4C-81BFDED96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9D3E-9E43-42C9-8045-3F1029B7C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8C45-8A22-425D-9B04-F7FC4D4A7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0F6E-DA5E-4B4A-B22D-07E1F2C57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6102-505D-4FB8-9BAC-E5568C9B9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9BA1-7B93-4993-BC4C-A5B3E8F7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0C99-7D45-43CF-BCAA-D7002B60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38FC-70DE-442A-8954-8E678EDC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2FC4D-27BE-4B04-982F-39619E7C72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6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ct and Opin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581280" y="2286000"/>
            <a:ext cx="2152800" cy="18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19360" y="342864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3" descr="uprktpr0[1]"/>
          <p:cNvPicPr/>
          <p:nvPr/>
        </p:nvPicPr>
        <p:blipFill>
          <a:blip r:embed="rId1"/>
          <a:stretch/>
        </p:blipFill>
        <p:spPr>
          <a:xfrm>
            <a:off x="838080" y="1905120"/>
            <a:ext cx="4567320" cy="23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!!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t was an Opin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could not find that fact in a dictionary or reference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3">
            <a:hlinkClick r:id="" action="ppaction://hlinkshowjump?jump=previousslide"/>
          </p:cNvPr>
          <p:cNvSpPr/>
          <p:nvPr/>
        </p:nvSpPr>
        <p:spPr>
          <a:xfrm>
            <a:off x="445680" y="5870520"/>
            <a:ext cx="1323720" cy="528120"/>
          </a:xfrm>
          <a:custGeom>
            <a:avLst/>
            <a:gdLst>
              <a:gd name="textAreaLeft" fmla="*/ 34200 w 1323720"/>
              <a:gd name="textAreaRight" fmla="*/ 1289520 w 1323720"/>
              <a:gd name="textAreaTop" fmla="*/ 34200 h 528120"/>
              <a:gd name="textAreaBottom" fmla="*/ 493920 h 528120"/>
            </a:gdLst>
            <a:ahLst/>
            <a:rect l="textAreaLeft" t="textAreaTop" r="textAreaRight" b="textAreaBottom"/>
            <a:pathLst>
              <a:path w="54118" h="21600">
                <a:moveTo>
                  <a:pt x="0" y="0"/>
                </a:moveTo>
                <a:lnTo>
                  <a:pt x="54118" y="0"/>
                </a:lnTo>
                <a:lnTo>
                  <a:pt x="54118" y="21600"/>
                </a:lnTo>
                <a:lnTo>
                  <a:pt x="0" y="21600"/>
                </a:lnTo>
                <a:close/>
              </a:path>
              <a:path fill="lightenLess" w="54118" h="21600">
                <a:moveTo>
                  <a:pt x="0" y="0"/>
                </a:moveTo>
                <a:lnTo>
                  <a:pt x="54118" y="0"/>
                </a:lnTo>
                <a:lnTo>
                  <a:pt x="52718" y="1400"/>
                </a:lnTo>
                <a:lnTo>
                  <a:pt x="1400" y="1400"/>
                </a:lnTo>
                <a:close/>
              </a:path>
              <a:path fill="darken" w="54118" h="21600">
                <a:moveTo>
                  <a:pt x="54118" y="0"/>
                </a:moveTo>
                <a:lnTo>
                  <a:pt x="54118" y="21600"/>
                </a:lnTo>
                <a:lnTo>
                  <a:pt x="52718" y="20200"/>
                </a:lnTo>
                <a:lnTo>
                  <a:pt x="52718" y="1400"/>
                </a:lnTo>
                <a:close/>
              </a:path>
              <a:path fill="darkenLess" w="54118" h="21600">
                <a:moveTo>
                  <a:pt x="541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718" y="20200"/>
                </a:lnTo>
                <a:close/>
              </a:path>
              <a:path fill="lighten" w="541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118" h="21600">
                <a:moveTo>
                  <a:pt x="20052" y="7493"/>
                </a:moveTo>
                <a:lnTo>
                  <a:pt x="23560" y="7493"/>
                </a:lnTo>
                <a:lnTo>
                  <a:pt x="23560" y="12828"/>
                </a:lnTo>
                <a:cubicBezTo>
                  <a:pt x="23560" y="13751"/>
                  <a:pt x="24361" y="14482"/>
                  <a:pt x="25396" y="14482"/>
                </a:cubicBezTo>
                <a:lnTo>
                  <a:pt x="27059" y="14482"/>
                </a:lnTo>
                <a:cubicBezTo>
                  <a:pt x="28095" y="14482"/>
                  <a:pt x="28895" y="13751"/>
                  <a:pt x="28895" y="12828"/>
                </a:cubicBezTo>
                <a:lnTo>
                  <a:pt x="28895" y="7493"/>
                </a:lnTo>
                <a:lnTo>
                  <a:pt x="27059" y="7493"/>
                </a:lnTo>
                <a:lnTo>
                  <a:pt x="30566" y="3985"/>
                </a:lnTo>
                <a:lnTo>
                  <a:pt x="34239" y="7493"/>
                </a:lnTo>
                <a:lnTo>
                  <a:pt x="32403" y="7493"/>
                </a:lnTo>
                <a:lnTo>
                  <a:pt x="32403" y="12828"/>
                </a:lnTo>
                <a:cubicBezTo>
                  <a:pt x="32403" y="15596"/>
                  <a:pt x="29827" y="18155"/>
                  <a:pt x="27059" y="18155"/>
                </a:cubicBezTo>
                <a:lnTo>
                  <a:pt x="25396" y="18155"/>
                </a:lnTo>
                <a:cubicBezTo>
                  <a:pt x="22629" y="18155"/>
                  <a:pt x="20052" y="15596"/>
                  <a:pt x="20052" y="12828"/>
                </a:cubicBez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rry, that was a FAC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3">
            <a:hlinkClick r:id="" action="ppaction://hlinkshowjump?jump=previousslide"/>
          </p:cNvPr>
          <p:cNvSpPr/>
          <p:nvPr/>
        </p:nvSpPr>
        <p:spPr>
          <a:xfrm>
            <a:off x="521640" y="6099120"/>
            <a:ext cx="1323720" cy="528120"/>
          </a:xfrm>
          <a:custGeom>
            <a:avLst/>
            <a:gdLst>
              <a:gd name="textAreaLeft" fmla="*/ 34200 w 1323720"/>
              <a:gd name="textAreaRight" fmla="*/ 1289520 w 1323720"/>
              <a:gd name="textAreaTop" fmla="*/ 34200 h 528120"/>
              <a:gd name="textAreaBottom" fmla="*/ 493920 h 528120"/>
            </a:gdLst>
            <a:ahLst/>
            <a:rect l="textAreaLeft" t="textAreaTop" r="textAreaRight" b="textAreaBottom"/>
            <a:pathLst>
              <a:path w="54118" h="21600">
                <a:moveTo>
                  <a:pt x="0" y="0"/>
                </a:moveTo>
                <a:lnTo>
                  <a:pt x="54118" y="0"/>
                </a:lnTo>
                <a:lnTo>
                  <a:pt x="54118" y="21600"/>
                </a:lnTo>
                <a:lnTo>
                  <a:pt x="0" y="21600"/>
                </a:lnTo>
                <a:close/>
              </a:path>
              <a:path fill="lightenLess" w="54118" h="21600">
                <a:moveTo>
                  <a:pt x="0" y="0"/>
                </a:moveTo>
                <a:lnTo>
                  <a:pt x="54118" y="0"/>
                </a:lnTo>
                <a:lnTo>
                  <a:pt x="52718" y="1400"/>
                </a:lnTo>
                <a:lnTo>
                  <a:pt x="1400" y="1400"/>
                </a:lnTo>
                <a:close/>
              </a:path>
              <a:path fill="darken" w="54118" h="21600">
                <a:moveTo>
                  <a:pt x="54118" y="0"/>
                </a:moveTo>
                <a:lnTo>
                  <a:pt x="54118" y="21600"/>
                </a:lnTo>
                <a:lnTo>
                  <a:pt x="52718" y="20200"/>
                </a:lnTo>
                <a:lnTo>
                  <a:pt x="52718" y="1400"/>
                </a:lnTo>
                <a:close/>
              </a:path>
              <a:path fill="darkenLess" w="54118" h="21600">
                <a:moveTo>
                  <a:pt x="541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718" y="20200"/>
                </a:lnTo>
                <a:close/>
              </a:path>
              <a:path fill="lighten" w="541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118" h="21600">
                <a:moveTo>
                  <a:pt x="20052" y="7493"/>
                </a:moveTo>
                <a:lnTo>
                  <a:pt x="23560" y="7493"/>
                </a:lnTo>
                <a:lnTo>
                  <a:pt x="23560" y="12828"/>
                </a:lnTo>
                <a:cubicBezTo>
                  <a:pt x="23560" y="13751"/>
                  <a:pt x="24361" y="14482"/>
                  <a:pt x="25396" y="14482"/>
                </a:cubicBezTo>
                <a:lnTo>
                  <a:pt x="27059" y="14482"/>
                </a:lnTo>
                <a:cubicBezTo>
                  <a:pt x="28095" y="14482"/>
                  <a:pt x="28895" y="13751"/>
                  <a:pt x="28895" y="12828"/>
                </a:cubicBezTo>
                <a:lnTo>
                  <a:pt x="28895" y="7493"/>
                </a:lnTo>
                <a:lnTo>
                  <a:pt x="27059" y="7493"/>
                </a:lnTo>
                <a:lnTo>
                  <a:pt x="30566" y="3985"/>
                </a:lnTo>
                <a:lnTo>
                  <a:pt x="34239" y="7493"/>
                </a:lnTo>
                <a:lnTo>
                  <a:pt x="32403" y="7493"/>
                </a:lnTo>
                <a:lnTo>
                  <a:pt x="32403" y="12828"/>
                </a:lnTo>
                <a:cubicBezTo>
                  <a:pt x="32403" y="15596"/>
                  <a:pt x="29827" y="18155"/>
                  <a:pt x="27059" y="18155"/>
                </a:cubicBezTo>
                <a:lnTo>
                  <a:pt x="25396" y="18155"/>
                </a:lnTo>
                <a:cubicBezTo>
                  <a:pt x="22629" y="18155"/>
                  <a:pt x="20052" y="15596"/>
                  <a:pt x="20052" y="12828"/>
                </a:cubicBez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t’s Right!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entence was a FAC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3">
            <a:hlinkClick r:id="" action="ppaction://hlinkshowjump?jump=previousslide"/>
          </p:cNvPr>
          <p:cNvSpPr/>
          <p:nvPr/>
        </p:nvSpPr>
        <p:spPr>
          <a:xfrm>
            <a:off x="407520" y="6022440"/>
            <a:ext cx="1323720" cy="528120"/>
          </a:xfrm>
          <a:custGeom>
            <a:avLst/>
            <a:gdLst>
              <a:gd name="textAreaLeft" fmla="*/ 34200 w 1323720"/>
              <a:gd name="textAreaRight" fmla="*/ 1289520 w 1323720"/>
              <a:gd name="textAreaTop" fmla="*/ 34200 h 528120"/>
              <a:gd name="textAreaBottom" fmla="*/ 493920 h 528120"/>
            </a:gdLst>
            <a:ahLst/>
            <a:rect l="textAreaLeft" t="textAreaTop" r="textAreaRight" b="textAreaBottom"/>
            <a:pathLst>
              <a:path w="54118" h="21600">
                <a:moveTo>
                  <a:pt x="0" y="0"/>
                </a:moveTo>
                <a:lnTo>
                  <a:pt x="54118" y="0"/>
                </a:lnTo>
                <a:lnTo>
                  <a:pt x="54118" y="21600"/>
                </a:lnTo>
                <a:lnTo>
                  <a:pt x="0" y="21600"/>
                </a:lnTo>
                <a:close/>
              </a:path>
              <a:path fill="lightenLess" w="54118" h="21600">
                <a:moveTo>
                  <a:pt x="0" y="0"/>
                </a:moveTo>
                <a:lnTo>
                  <a:pt x="54118" y="0"/>
                </a:lnTo>
                <a:lnTo>
                  <a:pt x="52718" y="1400"/>
                </a:lnTo>
                <a:lnTo>
                  <a:pt x="1400" y="1400"/>
                </a:lnTo>
                <a:close/>
              </a:path>
              <a:path fill="darken" w="54118" h="21600">
                <a:moveTo>
                  <a:pt x="54118" y="0"/>
                </a:moveTo>
                <a:lnTo>
                  <a:pt x="54118" y="21600"/>
                </a:lnTo>
                <a:lnTo>
                  <a:pt x="52718" y="20200"/>
                </a:lnTo>
                <a:lnTo>
                  <a:pt x="52718" y="1400"/>
                </a:lnTo>
                <a:close/>
              </a:path>
              <a:path fill="darkenLess" w="54118" h="21600">
                <a:moveTo>
                  <a:pt x="541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718" y="20200"/>
                </a:lnTo>
                <a:close/>
              </a:path>
              <a:path fill="lighten" w="541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118" h="21600">
                <a:moveTo>
                  <a:pt x="20052" y="7493"/>
                </a:moveTo>
                <a:lnTo>
                  <a:pt x="23560" y="7493"/>
                </a:lnTo>
                <a:lnTo>
                  <a:pt x="23560" y="12828"/>
                </a:lnTo>
                <a:cubicBezTo>
                  <a:pt x="23560" y="13751"/>
                  <a:pt x="24361" y="14482"/>
                  <a:pt x="25396" y="14482"/>
                </a:cubicBezTo>
                <a:lnTo>
                  <a:pt x="27059" y="14482"/>
                </a:lnTo>
                <a:cubicBezTo>
                  <a:pt x="28095" y="14482"/>
                  <a:pt x="28895" y="13751"/>
                  <a:pt x="28895" y="12828"/>
                </a:cubicBezTo>
                <a:lnTo>
                  <a:pt x="28895" y="7493"/>
                </a:lnTo>
                <a:lnTo>
                  <a:pt x="27059" y="7493"/>
                </a:lnTo>
                <a:lnTo>
                  <a:pt x="30566" y="3985"/>
                </a:lnTo>
                <a:lnTo>
                  <a:pt x="34239" y="7493"/>
                </a:lnTo>
                <a:lnTo>
                  <a:pt x="32403" y="7493"/>
                </a:lnTo>
                <a:lnTo>
                  <a:pt x="32403" y="12828"/>
                </a:lnTo>
                <a:cubicBezTo>
                  <a:pt x="32403" y="15596"/>
                  <a:pt x="29827" y="18155"/>
                  <a:pt x="27059" y="18155"/>
                </a:cubicBezTo>
                <a:lnTo>
                  <a:pt x="25396" y="18155"/>
                </a:lnTo>
                <a:cubicBezTo>
                  <a:pt x="22629" y="18155"/>
                  <a:pt x="20052" y="15596"/>
                  <a:pt x="20052" y="12828"/>
                </a:cubicBez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t’s Right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295280" y="266688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entences are facts. You can prove these sentences are TRUE by using an encyclopedia, a dictionary, or your own experi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4">
            <a:hlinkClick r:id="" action="ppaction://hlinkshowjump?jump=previousslide"/>
          </p:cNvPr>
          <p:cNvSpPr/>
          <p:nvPr/>
        </p:nvSpPr>
        <p:spPr>
          <a:xfrm>
            <a:off x="565200" y="5718240"/>
            <a:ext cx="1390680" cy="528120"/>
          </a:xfrm>
          <a:custGeom>
            <a:avLst/>
            <a:gdLst>
              <a:gd name="textAreaLeft" fmla="*/ 34200 w 1390680"/>
              <a:gd name="textAreaRight" fmla="*/ 1356480 w 1390680"/>
              <a:gd name="textAreaTop" fmla="*/ 34200 h 528120"/>
              <a:gd name="textAreaBottom" fmla="*/ 493920 h 528120"/>
            </a:gdLst>
            <a:ahLst/>
            <a:rect l="textAreaLeft" t="textAreaTop" r="textAreaRight" b="textAreaBottom"/>
            <a:pathLst>
              <a:path w="56854" h="21600">
                <a:moveTo>
                  <a:pt x="0" y="0"/>
                </a:moveTo>
                <a:lnTo>
                  <a:pt x="56854" y="0"/>
                </a:lnTo>
                <a:lnTo>
                  <a:pt x="56854" y="21600"/>
                </a:lnTo>
                <a:lnTo>
                  <a:pt x="0" y="21600"/>
                </a:lnTo>
                <a:close/>
              </a:path>
              <a:path fill="lightenLess" w="56854" h="21600">
                <a:moveTo>
                  <a:pt x="0" y="0"/>
                </a:moveTo>
                <a:lnTo>
                  <a:pt x="56854" y="0"/>
                </a:lnTo>
                <a:lnTo>
                  <a:pt x="55454" y="1400"/>
                </a:lnTo>
                <a:lnTo>
                  <a:pt x="1400" y="1400"/>
                </a:lnTo>
                <a:close/>
              </a:path>
              <a:path fill="darken" w="56854" h="21600">
                <a:moveTo>
                  <a:pt x="56854" y="0"/>
                </a:moveTo>
                <a:lnTo>
                  <a:pt x="56854" y="21600"/>
                </a:lnTo>
                <a:lnTo>
                  <a:pt x="55454" y="20200"/>
                </a:lnTo>
                <a:lnTo>
                  <a:pt x="55454" y="1400"/>
                </a:lnTo>
                <a:close/>
              </a:path>
              <a:path fill="darkenLess" w="56854" h="21600">
                <a:moveTo>
                  <a:pt x="568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454" y="20200"/>
                </a:lnTo>
                <a:close/>
              </a:path>
              <a:path fill="lighten" w="568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854" h="21600">
                <a:moveTo>
                  <a:pt x="21421" y="7493"/>
                </a:moveTo>
                <a:lnTo>
                  <a:pt x="24928" y="7493"/>
                </a:lnTo>
                <a:lnTo>
                  <a:pt x="24928" y="12828"/>
                </a:lnTo>
                <a:cubicBezTo>
                  <a:pt x="24928" y="13751"/>
                  <a:pt x="25729" y="14482"/>
                  <a:pt x="26765" y="14482"/>
                </a:cubicBezTo>
                <a:lnTo>
                  <a:pt x="28427" y="14482"/>
                </a:lnTo>
                <a:cubicBezTo>
                  <a:pt x="29463" y="14482"/>
                  <a:pt x="30264" y="13751"/>
                  <a:pt x="30264" y="12828"/>
                </a:cubicBezTo>
                <a:lnTo>
                  <a:pt x="30264" y="7493"/>
                </a:lnTo>
                <a:lnTo>
                  <a:pt x="28427" y="7493"/>
                </a:lnTo>
                <a:lnTo>
                  <a:pt x="31935" y="3985"/>
                </a:lnTo>
                <a:lnTo>
                  <a:pt x="35608" y="7493"/>
                </a:lnTo>
                <a:lnTo>
                  <a:pt x="33771" y="7493"/>
                </a:lnTo>
                <a:lnTo>
                  <a:pt x="33771" y="12828"/>
                </a:lnTo>
                <a:cubicBezTo>
                  <a:pt x="33771" y="15596"/>
                  <a:pt x="31195" y="18155"/>
                  <a:pt x="28427" y="18155"/>
                </a:cubicBezTo>
                <a:lnTo>
                  <a:pt x="26765" y="18155"/>
                </a:lnTo>
                <a:cubicBezTo>
                  <a:pt x="23997" y="18155"/>
                  <a:pt x="21421" y="15596"/>
                  <a:pt x="21421" y="12828"/>
                </a:cubicBez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rry, try agai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4">
            <a:hlinkClick r:id="" action="ppaction://hlinkshowjump?jump=previousslide"/>
          </p:cNvPr>
          <p:cNvSpPr/>
          <p:nvPr/>
        </p:nvSpPr>
        <p:spPr>
          <a:xfrm>
            <a:off x="559800" y="6099120"/>
            <a:ext cx="1323720" cy="528120"/>
          </a:xfrm>
          <a:custGeom>
            <a:avLst/>
            <a:gdLst>
              <a:gd name="textAreaLeft" fmla="*/ 34200 w 1323720"/>
              <a:gd name="textAreaRight" fmla="*/ 1289520 w 1323720"/>
              <a:gd name="textAreaTop" fmla="*/ 34200 h 528120"/>
              <a:gd name="textAreaBottom" fmla="*/ 493920 h 528120"/>
            </a:gdLst>
            <a:ahLst/>
            <a:rect l="textAreaLeft" t="textAreaTop" r="textAreaRight" b="textAreaBottom"/>
            <a:pathLst>
              <a:path w="54118" h="21600">
                <a:moveTo>
                  <a:pt x="0" y="0"/>
                </a:moveTo>
                <a:lnTo>
                  <a:pt x="54118" y="0"/>
                </a:lnTo>
                <a:lnTo>
                  <a:pt x="54118" y="21600"/>
                </a:lnTo>
                <a:lnTo>
                  <a:pt x="0" y="21600"/>
                </a:lnTo>
                <a:close/>
              </a:path>
              <a:path fill="lightenLess" w="54118" h="21600">
                <a:moveTo>
                  <a:pt x="0" y="0"/>
                </a:moveTo>
                <a:lnTo>
                  <a:pt x="54118" y="0"/>
                </a:lnTo>
                <a:lnTo>
                  <a:pt x="52718" y="1400"/>
                </a:lnTo>
                <a:lnTo>
                  <a:pt x="1400" y="1400"/>
                </a:lnTo>
                <a:close/>
              </a:path>
              <a:path fill="darken" w="54118" h="21600">
                <a:moveTo>
                  <a:pt x="54118" y="0"/>
                </a:moveTo>
                <a:lnTo>
                  <a:pt x="54118" y="21600"/>
                </a:lnTo>
                <a:lnTo>
                  <a:pt x="52718" y="20200"/>
                </a:lnTo>
                <a:lnTo>
                  <a:pt x="52718" y="1400"/>
                </a:lnTo>
                <a:close/>
              </a:path>
              <a:path fill="darkenLess" w="54118" h="21600">
                <a:moveTo>
                  <a:pt x="541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718" y="20200"/>
                </a:lnTo>
                <a:close/>
              </a:path>
              <a:path fill="lighten" w="541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118" h="21600">
                <a:moveTo>
                  <a:pt x="20052" y="7493"/>
                </a:moveTo>
                <a:lnTo>
                  <a:pt x="23560" y="7493"/>
                </a:lnTo>
                <a:lnTo>
                  <a:pt x="23560" y="12828"/>
                </a:lnTo>
                <a:cubicBezTo>
                  <a:pt x="23560" y="13751"/>
                  <a:pt x="24361" y="14482"/>
                  <a:pt x="25396" y="14482"/>
                </a:cubicBezTo>
                <a:lnTo>
                  <a:pt x="27059" y="14482"/>
                </a:lnTo>
                <a:cubicBezTo>
                  <a:pt x="28095" y="14482"/>
                  <a:pt x="28895" y="13751"/>
                  <a:pt x="28895" y="12828"/>
                </a:cubicBezTo>
                <a:lnTo>
                  <a:pt x="28895" y="7493"/>
                </a:lnTo>
                <a:lnTo>
                  <a:pt x="27059" y="7493"/>
                </a:lnTo>
                <a:lnTo>
                  <a:pt x="30566" y="3985"/>
                </a:lnTo>
                <a:lnTo>
                  <a:pt x="34239" y="7493"/>
                </a:lnTo>
                <a:lnTo>
                  <a:pt x="32403" y="7493"/>
                </a:lnTo>
                <a:lnTo>
                  <a:pt x="32403" y="12828"/>
                </a:lnTo>
                <a:cubicBezTo>
                  <a:pt x="32403" y="15596"/>
                  <a:pt x="29827" y="18155"/>
                  <a:pt x="27059" y="18155"/>
                </a:cubicBezTo>
                <a:lnTo>
                  <a:pt x="25396" y="18155"/>
                </a:lnTo>
                <a:cubicBezTo>
                  <a:pt x="22629" y="18155"/>
                  <a:pt x="20052" y="15596"/>
                  <a:pt x="20052" y="12828"/>
                </a:cubicBez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metimes it is hard to tell the difference between sentences that are facts and sentences that are fic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FAC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can be proven to be tru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OPINIO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is what someone believes -it cannot be proven true or fals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5"/>
          <p:cNvSpPr/>
          <p:nvPr/>
        </p:nvSpPr>
        <p:spPr>
          <a:xfrm>
            <a:off x="838080" y="3048120"/>
            <a:ext cx="7467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iding if a sentence is a F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can find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idenc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for a sentence, then it is a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FAC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09680" y="4495680"/>
            <a:ext cx="3733920" cy="1990800"/>
          </a:xfrm>
          <a:prstGeom prst="rect">
            <a:avLst/>
          </a:prstGeom>
          <a:ln w="0">
            <a:noFill/>
          </a:ln>
        </p:spPr>
      </p:pic>
      <p:sp>
        <p:nvSpPr>
          <p:cNvPr id="55" name="Line 5"/>
          <p:cNvSpPr/>
          <p:nvPr/>
        </p:nvSpPr>
        <p:spPr>
          <a:xfrm>
            <a:off x="1295280" y="175248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ok at these sentenc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Rabbits are mamm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George Washington was the first president of the United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The earth orbits the s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There are books in the libr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457200" y="4978440"/>
            <a:ext cx="60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the Author want you to believe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sentences are fac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8"/>
          <p:cNvSpPr/>
          <p:nvPr/>
        </p:nvSpPr>
        <p:spPr>
          <a:xfrm>
            <a:off x="4962600" y="5641920"/>
            <a:ext cx="823680" cy="528120"/>
          </a:xfrm>
          <a:custGeom>
            <a:avLst/>
            <a:gdLst>
              <a:gd name="textAreaLeft" fmla="*/ 34200 w 823680"/>
              <a:gd name="textAreaRight" fmla="*/ 789480 w 823680"/>
              <a:gd name="textAreaTop" fmla="*/ 34200 h 528120"/>
              <a:gd name="textAreaBottom" fmla="*/ 493920 h 528120"/>
            </a:gdLst>
            <a:ahLst/>
            <a:rect l="textAreaLeft" t="textAreaTop" r="textAreaRight" b="textAreaBottom"/>
            <a:pathLst>
              <a:path w="33680" h="21600">
                <a:moveTo>
                  <a:pt x="0" y="0"/>
                </a:moveTo>
                <a:lnTo>
                  <a:pt x="33680" y="0"/>
                </a:lnTo>
                <a:lnTo>
                  <a:pt x="33680" y="21600"/>
                </a:lnTo>
                <a:lnTo>
                  <a:pt x="0" y="21600"/>
                </a:lnTo>
                <a:close/>
              </a:path>
              <a:path fill="lightenLess" w="33680" h="21600">
                <a:moveTo>
                  <a:pt x="0" y="0"/>
                </a:moveTo>
                <a:lnTo>
                  <a:pt x="33680" y="0"/>
                </a:lnTo>
                <a:lnTo>
                  <a:pt x="32280" y="1400"/>
                </a:lnTo>
                <a:lnTo>
                  <a:pt x="1400" y="1400"/>
                </a:lnTo>
                <a:close/>
              </a:path>
              <a:path fill="darken" w="33680" h="21600">
                <a:moveTo>
                  <a:pt x="33680" y="0"/>
                </a:moveTo>
                <a:lnTo>
                  <a:pt x="33680" y="21600"/>
                </a:lnTo>
                <a:lnTo>
                  <a:pt x="32280" y="20200"/>
                </a:lnTo>
                <a:lnTo>
                  <a:pt x="32280" y="1400"/>
                </a:lnTo>
                <a:close/>
              </a:path>
              <a:path fill="darkenLess" w="33680" h="21600">
                <a:moveTo>
                  <a:pt x="336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80" y="20200"/>
                </a:lnTo>
                <a:close/>
              </a:path>
              <a:path fill="lighten" w="336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10">
            <a:hlinkClick r:id="rId2" action="ppaction://hlinksldjump"/>
          </p:cNvPr>
          <p:cNvSpPr/>
          <p:nvPr/>
        </p:nvSpPr>
        <p:spPr>
          <a:xfrm>
            <a:off x="6248520" y="5654520"/>
            <a:ext cx="873000" cy="528120"/>
          </a:xfrm>
          <a:custGeom>
            <a:avLst/>
            <a:gdLst>
              <a:gd name="textAreaLeft" fmla="*/ 34200 w 873000"/>
              <a:gd name="textAreaRight" fmla="*/ 838800 w 873000"/>
              <a:gd name="textAreaTop" fmla="*/ 34200 h 528120"/>
              <a:gd name="textAreaBottom" fmla="*/ 493920 h 528120"/>
            </a:gdLst>
            <a:ahLst/>
            <a:rect l="textAreaLeft" t="textAreaTop" r="textAreaRight" b="textAreaBottom"/>
            <a:pathLst>
              <a:path w="35696" h="21600">
                <a:moveTo>
                  <a:pt x="0" y="0"/>
                </a:moveTo>
                <a:lnTo>
                  <a:pt x="35696" y="0"/>
                </a:lnTo>
                <a:lnTo>
                  <a:pt x="35696" y="21600"/>
                </a:lnTo>
                <a:lnTo>
                  <a:pt x="0" y="21600"/>
                </a:lnTo>
                <a:close/>
              </a:path>
              <a:path fill="lightenLess" w="35696" h="21600">
                <a:moveTo>
                  <a:pt x="0" y="0"/>
                </a:moveTo>
                <a:lnTo>
                  <a:pt x="35696" y="0"/>
                </a:lnTo>
                <a:lnTo>
                  <a:pt x="34296" y="1400"/>
                </a:lnTo>
                <a:lnTo>
                  <a:pt x="1400" y="1400"/>
                </a:lnTo>
                <a:close/>
              </a:path>
              <a:path fill="darken" w="35696" h="21600">
                <a:moveTo>
                  <a:pt x="35696" y="0"/>
                </a:moveTo>
                <a:lnTo>
                  <a:pt x="35696" y="21600"/>
                </a:lnTo>
                <a:lnTo>
                  <a:pt x="34296" y="20200"/>
                </a:lnTo>
                <a:lnTo>
                  <a:pt x="34296" y="1400"/>
                </a:lnTo>
                <a:close/>
              </a:path>
              <a:path fill="darkenLess" w="35696" h="21600">
                <a:moveTo>
                  <a:pt x="35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296" y="20200"/>
                </a:lnTo>
                <a:close/>
              </a:path>
              <a:path fill="lighten" w="35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2">
            <a:hlinkClick r:id="" action="ppaction://hlinkshowjump?jump=nextslide"/>
          </p:cNvPr>
          <p:cNvSpPr/>
          <p:nvPr/>
        </p:nvSpPr>
        <p:spPr>
          <a:xfrm>
            <a:off x="7759080" y="5702760"/>
            <a:ext cx="928800" cy="945720"/>
          </a:xfrm>
          <a:custGeom>
            <a:avLst/>
            <a:gdLst>
              <a:gd name="textAreaLeft" fmla="*/ 60120 w 928800"/>
              <a:gd name="textAreaRight" fmla="*/ 868680 w 928800"/>
              <a:gd name="textAreaTop" fmla="*/ 60120 h 945720"/>
              <a:gd name="textAreaBottom" fmla="*/ 885600 h 945720"/>
            </a:gdLst>
            <a:ahLst/>
            <a:rect l="textAreaLeft" t="textAreaTop" r="textAreaRight" b="textAreaBottom"/>
            <a:pathLst>
              <a:path w="21600" h="21993">
                <a:moveTo>
                  <a:pt x="0" y="0"/>
                </a:moveTo>
                <a:lnTo>
                  <a:pt x="21600" y="0"/>
                </a:lnTo>
                <a:lnTo>
                  <a:pt x="21600" y="21993"/>
                </a:lnTo>
                <a:lnTo>
                  <a:pt x="0" y="21993"/>
                </a:lnTo>
                <a:close/>
              </a:path>
              <a:path fill="lightenLess" w="21600" h="219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93">
                <a:moveTo>
                  <a:pt x="21600" y="0"/>
                </a:moveTo>
                <a:lnTo>
                  <a:pt x="21600" y="21993"/>
                </a:lnTo>
                <a:lnTo>
                  <a:pt x="20200" y="20593"/>
                </a:lnTo>
                <a:lnTo>
                  <a:pt x="20200" y="1400"/>
                </a:lnTo>
                <a:close/>
              </a:path>
              <a:path fill="darkenLess" w="21600" h="21993">
                <a:moveTo>
                  <a:pt x="21600" y="21993"/>
                </a:moveTo>
                <a:lnTo>
                  <a:pt x="0" y="21993"/>
                </a:lnTo>
                <a:lnTo>
                  <a:pt x="1400" y="20593"/>
                </a:lnTo>
                <a:lnTo>
                  <a:pt x="20200" y="20593"/>
                </a:lnTo>
                <a:close/>
              </a:path>
              <a:path fill="lighten" w="21600" h="21993">
                <a:moveTo>
                  <a:pt x="0" y="219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93"/>
                </a:lnTo>
                <a:close/>
              </a:path>
              <a:path fill="darken" w="21600" h="21993">
                <a:moveTo>
                  <a:pt x="3794" y="3990"/>
                </a:moveTo>
                <a:lnTo>
                  <a:pt x="17806" y="10997"/>
                </a:lnTo>
                <a:lnTo>
                  <a:pt x="3794" y="18003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bbits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AR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Mammal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ould look in a dictionary or encyclopedia, and find PROOF that the sentence states a fa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848720" y="3436920"/>
            <a:ext cx="430524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8" dur="1" fill="hold">
                                    <p:stCondLst>
                                      <p:cond evt="end">
                                        <p:tn val="24"/>
                                      </p:cond>
                                    </p:stCondLst>
                                  </p:cTn>
                                  <p:tgtEl>
                                    <p:spTgt spid="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decide - Fact or Opin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phants have four le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4"/>
          <p:cNvSpPr/>
          <p:nvPr/>
        </p:nvSpPr>
        <p:spPr>
          <a:xfrm>
            <a:off x="2057400" y="5791320"/>
            <a:ext cx="1905120" cy="761760"/>
          </a:xfrm>
          <a:custGeom>
            <a:avLst/>
            <a:gdLst>
              <a:gd name="textAreaLeft" fmla="*/ 49320 w 1905120"/>
              <a:gd name="textAreaRight" fmla="*/ 1855800 w 19051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54005" h="21600">
                <a:moveTo>
                  <a:pt x="0" y="0"/>
                </a:moveTo>
                <a:lnTo>
                  <a:pt x="54005" y="0"/>
                </a:lnTo>
                <a:lnTo>
                  <a:pt x="54005" y="21600"/>
                </a:lnTo>
                <a:lnTo>
                  <a:pt x="0" y="21600"/>
                </a:lnTo>
                <a:close/>
              </a:path>
              <a:path fill="lightenLess" w="54005" h="21600">
                <a:moveTo>
                  <a:pt x="0" y="0"/>
                </a:moveTo>
                <a:lnTo>
                  <a:pt x="54005" y="0"/>
                </a:lnTo>
                <a:lnTo>
                  <a:pt x="52605" y="1400"/>
                </a:lnTo>
                <a:lnTo>
                  <a:pt x="1400" y="1400"/>
                </a:lnTo>
                <a:close/>
              </a:path>
              <a:path fill="darken" w="54005" h="21600">
                <a:moveTo>
                  <a:pt x="54005" y="0"/>
                </a:moveTo>
                <a:lnTo>
                  <a:pt x="54005" y="21600"/>
                </a:lnTo>
                <a:lnTo>
                  <a:pt x="52605" y="20200"/>
                </a:lnTo>
                <a:lnTo>
                  <a:pt x="52605" y="1400"/>
                </a:lnTo>
                <a:close/>
              </a:path>
              <a:path fill="darkenLess" w="54005" h="21600">
                <a:moveTo>
                  <a:pt x="540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05" y="20200"/>
                </a:lnTo>
                <a:close/>
              </a:path>
              <a:path fill="lighten" w="540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5">
            <a:hlinkClick r:id="rId1" action="ppaction://hlinksldjump"/>
          </p:cNvPr>
          <p:cNvSpPr/>
          <p:nvPr/>
        </p:nvSpPr>
        <p:spPr>
          <a:xfrm>
            <a:off x="2214720" y="6137280"/>
            <a:ext cx="1062000" cy="528120"/>
          </a:xfrm>
          <a:custGeom>
            <a:avLst/>
            <a:gdLst>
              <a:gd name="textAreaLeft" fmla="*/ 34200 w 1062000"/>
              <a:gd name="textAreaRight" fmla="*/ 1027800 w 1062000"/>
              <a:gd name="textAreaTop" fmla="*/ 34200 h 528120"/>
              <a:gd name="textAreaBottom" fmla="*/ 493920 h 528120"/>
            </a:gdLst>
            <a:ahLst/>
            <a:rect l="textAreaLeft" t="textAreaTop" r="textAreaRight" b="textAreaBottom"/>
            <a:pathLst>
              <a:path w="43421" h="21600">
                <a:moveTo>
                  <a:pt x="0" y="0"/>
                </a:moveTo>
                <a:lnTo>
                  <a:pt x="43421" y="0"/>
                </a:lnTo>
                <a:lnTo>
                  <a:pt x="43421" y="21600"/>
                </a:lnTo>
                <a:lnTo>
                  <a:pt x="0" y="21600"/>
                </a:lnTo>
                <a:close/>
              </a:path>
              <a:path fill="lightenLess" w="43421" h="21600">
                <a:moveTo>
                  <a:pt x="0" y="0"/>
                </a:moveTo>
                <a:lnTo>
                  <a:pt x="43421" y="0"/>
                </a:lnTo>
                <a:lnTo>
                  <a:pt x="42021" y="1400"/>
                </a:lnTo>
                <a:lnTo>
                  <a:pt x="1400" y="1400"/>
                </a:lnTo>
                <a:close/>
              </a:path>
              <a:path fill="darken" w="43421" h="21600">
                <a:moveTo>
                  <a:pt x="43421" y="0"/>
                </a:moveTo>
                <a:lnTo>
                  <a:pt x="43421" y="21600"/>
                </a:lnTo>
                <a:lnTo>
                  <a:pt x="42021" y="20200"/>
                </a:lnTo>
                <a:lnTo>
                  <a:pt x="42021" y="1400"/>
                </a:lnTo>
                <a:close/>
              </a:path>
              <a:path fill="darkenLess" w="43421" h="21600">
                <a:moveTo>
                  <a:pt x="434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021" y="20200"/>
                </a:lnTo>
                <a:close/>
              </a:path>
              <a:path fill="lighten" w="434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7"/>
          <p:cNvSpPr/>
          <p:nvPr/>
        </p:nvSpPr>
        <p:spPr>
          <a:xfrm>
            <a:off x="5104080" y="6087960"/>
            <a:ext cx="1248840" cy="528120"/>
          </a:xfrm>
          <a:custGeom>
            <a:avLst/>
            <a:gdLst>
              <a:gd name="textAreaLeft" fmla="*/ 34200 w 1248840"/>
              <a:gd name="textAreaRight" fmla="*/ 1214640 w 1248840"/>
              <a:gd name="textAreaTop" fmla="*/ 34200 h 528120"/>
              <a:gd name="textAreaBottom" fmla="*/ 493920 h 528120"/>
            </a:gdLst>
            <a:ahLst/>
            <a:rect l="textAreaLeft" t="textAreaTop" r="textAreaRight" b="textAreaBottom"/>
            <a:pathLst>
              <a:path w="51057" h="21600">
                <a:moveTo>
                  <a:pt x="0" y="0"/>
                </a:moveTo>
                <a:lnTo>
                  <a:pt x="51057" y="0"/>
                </a:lnTo>
                <a:lnTo>
                  <a:pt x="51057" y="21600"/>
                </a:lnTo>
                <a:lnTo>
                  <a:pt x="0" y="21600"/>
                </a:lnTo>
                <a:close/>
              </a:path>
              <a:path fill="lightenLess" w="51057" h="21600">
                <a:moveTo>
                  <a:pt x="0" y="0"/>
                </a:moveTo>
                <a:lnTo>
                  <a:pt x="51057" y="0"/>
                </a:lnTo>
                <a:lnTo>
                  <a:pt x="49657" y="1400"/>
                </a:lnTo>
                <a:lnTo>
                  <a:pt x="1400" y="1400"/>
                </a:lnTo>
                <a:close/>
              </a:path>
              <a:path fill="darken" w="51057" h="21600">
                <a:moveTo>
                  <a:pt x="51057" y="0"/>
                </a:moveTo>
                <a:lnTo>
                  <a:pt x="51057" y="21600"/>
                </a:lnTo>
                <a:lnTo>
                  <a:pt x="49657" y="20200"/>
                </a:lnTo>
                <a:lnTo>
                  <a:pt x="49657" y="1400"/>
                </a:lnTo>
                <a:close/>
              </a:path>
              <a:path fill="darkenLess" w="51057" h="21600">
                <a:moveTo>
                  <a:pt x="510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657" y="20200"/>
                </a:lnTo>
                <a:close/>
              </a:path>
              <a:path fill="lighten" w="510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in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9">
            <a:hlinkClick r:id="" action="ppaction://hlinkshowjump?jump=nextslide"/>
          </p:cNvPr>
          <p:cNvSpPr/>
          <p:nvPr/>
        </p:nvSpPr>
        <p:spPr>
          <a:xfrm>
            <a:off x="7844400" y="6012000"/>
            <a:ext cx="1069200" cy="528120"/>
          </a:xfrm>
          <a:custGeom>
            <a:avLst/>
            <a:gdLst>
              <a:gd name="textAreaLeft" fmla="*/ 34200 w 1069200"/>
              <a:gd name="textAreaRight" fmla="*/ 1035000 w 1069200"/>
              <a:gd name="textAreaTop" fmla="*/ 34200 h 528120"/>
              <a:gd name="textAreaBottom" fmla="*/ 493920 h 528120"/>
            </a:gdLst>
            <a:ahLst/>
            <a:rect l="textAreaLeft" t="textAreaTop" r="textAreaRight" b="textAreaBottom"/>
            <a:pathLst>
              <a:path w="43715" h="21600">
                <a:moveTo>
                  <a:pt x="0" y="0"/>
                </a:moveTo>
                <a:lnTo>
                  <a:pt x="43715" y="0"/>
                </a:lnTo>
                <a:lnTo>
                  <a:pt x="43715" y="21600"/>
                </a:lnTo>
                <a:lnTo>
                  <a:pt x="0" y="21600"/>
                </a:lnTo>
                <a:close/>
              </a:path>
              <a:path fill="lightenLess" w="43715" h="21600">
                <a:moveTo>
                  <a:pt x="0" y="0"/>
                </a:moveTo>
                <a:lnTo>
                  <a:pt x="43715" y="0"/>
                </a:lnTo>
                <a:lnTo>
                  <a:pt x="42315" y="1400"/>
                </a:lnTo>
                <a:lnTo>
                  <a:pt x="1400" y="1400"/>
                </a:lnTo>
                <a:close/>
              </a:path>
              <a:path fill="darken" w="43715" h="21600">
                <a:moveTo>
                  <a:pt x="43715" y="0"/>
                </a:moveTo>
                <a:lnTo>
                  <a:pt x="43715" y="21600"/>
                </a:lnTo>
                <a:lnTo>
                  <a:pt x="42315" y="20200"/>
                </a:lnTo>
                <a:lnTo>
                  <a:pt x="42315" y="1400"/>
                </a:lnTo>
                <a:close/>
              </a:path>
              <a:path fill="darkenLess" w="43715" h="21600">
                <a:moveTo>
                  <a:pt x="437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315" y="20200"/>
                </a:lnTo>
                <a:close/>
              </a:path>
              <a:path fill="lighten" w="437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715" h="21600">
                <a:moveTo>
                  <a:pt x="14851" y="3794"/>
                </a:moveTo>
                <a:lnTo>
                  <a:pt x="28864" y="10800"/>
                </a:lnTo>
                <a:lnTo>
                  <a:pt x="14851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1" descr="dlj1xonn[1]"/>
          <p:cNvPicPr/>
          <p:nvPr/>
        </p:nvPicPr>
        <p:blipFill>
          <a:blip r:embed="rId2"/>
          <a:stretch/>
        </p:blipFill>
        <p:spPr>
          <a:xfrm>
            <a:off x="2209680" y="2971800"/>
            <a:ext cx="28958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decide - Fact or Opin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ack is the best color for a do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/>
          <p:cNvSpPr/>
          <p:nvPr/>
        </p:nvSpPr>
        <p:spPr>
          <a:xfrm>
            <a:off x="2057400" y="5791320"/>
            <a:ext cx="1905120" cy="761760"/>
          </a:xfrm>
          <a:custGeom>
            <a:avLst/>
            <a:gdLst>
              <a:gd name="textAreaLeft" fmla="*/ 49320 w 1905120"/>
              <a:gd name="textAreaRight" fmla="*/ 1855800 w 19051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54005" h="21600">
                <a:moveTo>
                  <a:pt x="0" y="0"/>
                </a:moveTo>
                <a:lnTo>
                  <a:pt x="54005" y="0"/>
                </a:lnTo>
                <a:lnTo>
                  <a:pt x="54005" y="21600"/>
                </a:lnTo>
                <a:lnTo>
                  <a:pt x="0" y="21600"/>
                </a:lnTo>
                <a:close/>
              </a:path>
              <a:path fill="lightenLess" w="54005" h="21600">
                <a:moveTo>
                  <a:pt x="0" y="0"/>
                </a:moveTo>
                <a:lnTo>
                  <a:pt x="54005" y="0"/>
                </a:lnTo>
                <a:lnTo>
                  <a:pt x="52605" y="1400"/>
                </a:lnTo>
                <a:lnTo>
                  <a:pt x="1400" y="1400"/>
                </a:lnTo>
                <a:close/>
              </a:path>
              <a:path fill="darken" w="54005" h="21600">
                <a:moveTo>
                  <a:pt x="54005" y="0"/>
                </a:moveTo>
                <a:lnTo>
                  <a:pt x="54005" y="21600"/>
                </a:lnTo>
                <a:lnTo>
                  <a:pt x="52605" y="20200"/>
                </a:lnTo>
                <a:lnTo>
                  <a:pt x="52605" y="1400"/>
                </a:lnTo>
                <a:close/>
              </a:path>
              <a:path fill="darkenLess" w="54005" h="21600">
                <a:moveTo>
                  <a:pt x="540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05" y="20200"/>
                </a:lnTo>
                <a:close/>
              </a:path>
              <a:path fill="lighten" w="540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5"/>
          <p:cNvSpPr/>
          <p:nvPr/>
        </p:nvSpPr>
        <p:spPr>
          <a:xfrm>
            <a:off x="2214720" y="6137280"/>
            <a:ext cx="1062000" cy="528120"/>
          </a:xfrm>
          <a:custGeom>
            <a:avLst/>
            <a:gdLst>
              <a:gd name="textAreaLeft" fmla="*/ 34200 w 1062000"/>
              <a:gd name="textAreaRight" fmla="*/ 1027800 w 1062000"/>
              <a:gd name="textAreaTop" fmla="*/ 34200 h 528120"/>
              <a:gd name="textAreaBottom" fmla="*/ 493920 h 528120"/>
            </a:gdLst>
            <a:ahLst/>
            <a:rect l="textAreaLeft" t="textAreaTop" r="textAreaRight" b="textAreaBottom"/>
            <a:pathLst>
              <a:path w="43421" h="21600">
                <a:moveTo>
                  <a:pt x="0" y="0"/>
                </a:moveTo>
                <a:lnTo>
                  <a:pt x="43421" y="0"/>
                </a:lnTo>
                <a:lnTo>
                  <a:pt x="43421" y="21600"/>
                </a:lnTo>
                <a:lnTo>
                  <a:pt x="0" y="21600"/>
                </a:lnTo>
                <a:close/>
              </a:path>
              <a:path fill="lightenLess" w="43421" h="21600">
                <a:moveTo>
                  <a:pt x="0" y="0"/>
                </a:moveTo>
                <a:lnTo>
                  <a:pt x="43421" y="0"/>
                </a:lnTo>
                <a:lnTo>
                  <a:pt x="42021" y="1400"/>
                </a:lnTo>
                <a:lnTo>
                  <a:pt x="1400" y="1400"/>
                </a:lnTo>
                <a:close/>
              </a:path>
              <a:path fill="darken" w="43421" h="21600">
                <a:moveTo>
                  <a:pt x="43421" y="0"/>
                </a:moveTo>
                <a:lnTo>
                  <a:pt x="43421" y="21600"/>
                </a:lnTo>
                <a:lnTo>
                  <a:pt x="42021" y="20200"/>
                </a:lnTo>
                <a:lnTo>
                  <a:pt x="42021" y="1400"/>
                </a:lnTo>
                <a:close/>
              </a:path>
              <a:path fill="darkenLess" w="43421" h="21600">
                <a:moveTo>
                  <a:pt x="434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021" y="20200"/>
                </a:lnTo>
                <a:close/>
              </a:path>
              <a:path fill="lighten" w="434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6"/>
          <p:cNvSpPr/>
          <p:nvPr/>
        </p:nvSpPr>
        <p:spPr>
          <a:xfrm>
            <a:off x="5104080" y="6087960"/>
            <a:ext cx="1248840" cy="528120"/>
          </a:xfrm>
          <a:custGeom>
            <a:avLst/>
            <a:gdLst>
              <a:gd name="textAreaLeft" fmla="*/ 34200 w 1248840"/>
              <a:gd name="textAreaRight" fmla="*/ 1214640 w 1248840"/>
              <a:gd name="textAreaTop" fmla="*/ 34200 h 528120"/>
              <a:gd name="textAreaBottom" fmla="*/ 493920 h 528120"/>
            </a:gdLst>
            <a:ahLst/>
            <a:rect l="textAreaLeft" t="textAreaTop" r="textAreaRight" b="textAreaBottom"/>
            <a:pathLst>
              <a:path w="51057" h="21600">
                <a:moveTo>
                  <a:pt x="0" y="0"/>
                </a:moveTo>
                <a:lnTo>
                  <a:pt x="51057" y="0"/>
                </a:lnTo>
                <a:lnTo>
                  <a:pt x="51057" y="21600"/>
                </a:lnTo>
                <a:lnTo>
                  <a:pt x="0" y="21600"/>
                </a:lnTo>
                <a:close/>
              </a:path>
              <a:path fill="lightenLess" w="51057" h="21600">
                <a:moveTo>
                  <a:pt x="0" y="0"/>
                </a:moveTo>
                <a:lnTo>
                  <a:pt x="51057" y="0"/>
                </a:lnTo>
                <a:lnTo>
                  <a:pt x="49657" y="1400"/>
                </a:lnTo>
                <a:lnTo>
                  <a:pt x="1400" y="1400"/>
                </a:lnTo>
                <a:close/>
              </a:path>
              <a:path fill="darken" w="51057" h="21600">
                <a:moveTo>
                  <a:pt x="51057" y="0"/>
                </a:moveTo>
                <a:lnTo>
                  <a:pt x="51057" y="21600"/>
                </a:lnTo>
                <a:lnTo>
                  <a:pt x="49657" y="20200"/>
                </a:lnTo>
                <a:lnTo>
                  <a:pt x="49657" y="1400"/>
                </a:lnTo>
                <a:close/>
              </a:path>
              <a:path fill="darkenLess" w="51057" h="21600">
                <a:moveTo>
                  <a:pt x="510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657" y="20200"/>
                </a:lnTo>
                <a:close/>
              </a:path>
              <a:path fill="lighten" w="510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in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7">
            <a:hlinkClick r:id="" action="ppaction://hlinkshowjump?jump=nextslide"/>
          </p:cNvPr>
          <p:cNvSpPr/>
          <p:nvPr/>
        </p:nvSpPr>
        <p:spPr>
          <a:xfrm>
            <a:off x="7844400" y="6012000"/>
            <a:ext cx="1069200" cy="528120"/>
          </a:xfrm>
          <a:custGeom>
            <a:avLst/>
            <a:gdLst>
              <a:gd name="textAreaLeft" fmla="*/ 34200 w 1069200"/>
              <a:gd name="textAreaRight" fmla="*/ 1035000 w 1069200"/>
              <a:gd name="textAreaTop" fmla="*/ 34200 h 528120"/>
              <a:gd name="textAreaBottom" fmla="*/ 493920 h 528120"/>
            </a:gdLst>
            <a:ahLst/>
            <a:rect l="textAreaLeft" t="textAreaTop" r="textAreaRight" b="textAreaBottom"/>
            <a:pathLst>
              <a:path w="43715" h="21600">
                <a:moveTo>
                  <a:pt x="0" y="0"/>
                </a:moveTo>
                <a:lnTo>
                  <a:pt x="43715" y="0"/>
                </a:lnTo>
                <a:lnTo>
                  <a:pt x="43715" y="21600"/>
                </a:lnTo>
                <a:lnTo>
                  <a:pt x="0" y="21600"/>
                </a:lnTo>
                <a:close/>
              </a:path>
              <a:path fill="lightenLess" w="43715" h="21600">
                <a:moveTo>
                  <a:pt x="0" y="0"/>
                </a:moveTo>
                <a:lnTo>
                  <a:pt x="43715" y="0"/>
                </a:lnTo>
                <a:lnTo>
                  <a:pt x="42315" y="1400"/>
                </a:lnTo>
                <a:lnTo>
                  <a:pt x="1400" y="1400"/>
                </a:lnTo>
                <a:close/>
              </a:path>
              <a:path fill="darken" w="43715" h="21600">
                <a:moveTo>
                  <a:pt x="43715" y="0"/>
                </a:moveTo>
                <a:lnTo>
                  <a:pt x="43715" y="21600"/>
                </a:lnTo>
                <a:lnTo>
                  <a:pt x="42315" y="20200"/>
                </a:lnTo>
                <a:lnTo>
                  <a:pt x="42315" y="1400"/>
                </a:lnTo>
                <a:close/>
              </a:path>
              <a:path fill="darkenLess" w="43715" h="21600">
                <a:moveTo>
                  <a:pt x="437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315" y="20200"/>
                </a:lnTo>
                <a:close/>
              </a:path>
              <a:path fill="lighten" w="437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715" h="21600">
                <a:moveTo>
                  <a:pt x="14851" y="3794"/>
                </a:moveTo>
                <a:lnTo>
                  <a:pt x="28864" y="10800"/>
                </a:lnTo>
                <a:lnTo>
                  <a:pt x="14851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686800" y="3048120"/>
            <a:ext cx="344808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evt="end">
                                        <p:tn val="33"/>
                                      </p:cond>
                                    </p:stCondLst>
                                  </p:cTn>
                                  <p:tgtEl>
                                    <p:spTgt spid="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decide - Fact or Opin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people have dogs for pe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4"/>
          <p:cNvSpPr/>
          <p:nvPr/>
        </p:nvSpPr>
        <p:spPr>
          <a:xfrm>
            <a:off x="2057400" y="5791320"/>
            <a:ext cx="1905120" cy="761760"/>
          </a:xfrm>
          <a:custGeom>
            <a:avLst/>
            <a:gdLst>
              <a:gd name="textAreaLeft" fmla="*/ 49320 w 1905120"/>
              <a:gd name="textAreaRight" fmla="*/ 1855800 w 19051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54005" h="21600">
                <a:moveTo>
                  <a:pt x="0" y="0"/>
                </a:moveTo>
                <a:lnTo>
                  <a:pt x="54005" y="0"/>
                </a:lnTo>
                <a:lnTo>
                  <a:pt x="54005" y="21600"/>
                </a:lnTo>
                <a:lnTo>
                  <a:pt x="0" y="21600"/>
                </a:lnTo>
                <a:close/>
              </a:path>
              <a:path fill="lightenLess" w="54005" h="21600">
                <a:moveTo>
                  <a:pt x="0" y="0"/>
                </a:moveTo>
                <a:lnTo>
                  <a:pt x="54005" y="0"/>
                </a:lnTo>
                <a:lnTo>
                  <a:pt x="52605" y="1400"/>
                </a:lnTo>
                <a:lnTo>
                  <a:pt x="1400" y="1400"/>
                </a:lnTo>
                <a:close/>
              </a:path>
              <a:path fill="darken" w="54005" h="21600">
                <a:moveTo>
                  <a:pt x="54005" y="0"/>
                </a:moveTo>
                <a:lnTo>
                  <a:pt x="54005" y="21600"/>
                </a:lnTo>
                <a:lnTo>
                  <a:pt x="52605" y="20200"/>
                </a:lnTo>
                <a:lnTo>
                  <a:pt x="52605" y="1400"/>
                </a:lnTo>
                <a:close/>
              </a:path>
              <a:path fill="darkenLess" w="54005" h="21600">
                <a:moveTo>
                  <a:pt x="540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05" y="20200"/>
                </a:lnTo>
                <a:close/>
              </a:path>
              <a:path fill="lighten" w="540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5"/>
          <p:cNvSpPr/>
          <p:nvPr/>
        </p:nvSpPr>
        <p:spPr>
          <a:xfrm>
            <a:off x="2214720" y="6137280"/>
            <a:ext cx="1062000" cy="528120"/>
          </a:xfrm>
          <a:custGeom>
            <a:avLst/>
            <a:gdLst>
              <a:gd name="textAreaLeft" fmla="*/ 34200 w 1062000"/>
              <a:gd name="textAreaRight" fmla="*/ 1027800 w 1062000"/>
              <a:gd name="textAreaTop" fmla="*/ 34200 h 528120"/>
              <a:gd name="textAreaBottom" fmla="*/ 493920 h 528120"/>
            </a:gdLst>
            <a:ahLst/>
            <a:rect l="textAreaLeft" t="textAreaTop" r="textAreaRight" b="textAreaBottom"/>
            <a:pathLst>
              <a:path w="43421" h="21600">
                <a:moveTo>
                  <a:pt x="0" y="0"/>
                </a:moveTo>
                <a:lnTo>
                  <a:pt x="43421" y="0"/>
                </a:lnTo>
                <a:lnTo>
                  <a:pt x="43421" y="21600"/>
                </a:lnTo>
                <a:lnTo>
                  <a:pt x="0" y="21600"/>
                </a:lnTo>
                <a:close/>
              </a:path>
              <a:path fill="lightenLess" w="43421" h="21600">
                <a:moveTo>
                  <a:pt x="0" y="0"/>
                </a:moveTo>
                <a:lnTo>
                  <a:pt x="43421" y="0"/>
                </a:lnTo>
                <a:lnTo>
                  <a:pt x="42021" y="1400"/>
                </a:lnTo>
                <a:lnTo>
                  <a:pt x="1400" y="1400"/>
                </a:lnTo>
                <a:close/>
              </a:path>
              <a:path fill="darken" w="43421" h="21600">
                <a:moveTo>
                  <a:pt x="43421" y="0"/>
                </a:moveTo>
                <a:lnTo>
                  <a:pt x="43421" y="21600"/>
                </a:lnTo>
                <a:lnTo>
                  <a:pt x="42021" y="20200"/>
                </a:lnTo>
                <a:lnTo>
                  <a:pt x="42021" y="1400"/>
                </a:lnTo>
                <a:close/>
              </a:path>
              <a:path fill="darkenLess" w="43421" h="21600">
                <a:moveTo>
                  <a:pt x="434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021" y="20200"/>
                </a:lnTo>
                <a:close/>
              </a:path>
              <a:path fill="lighten" w="434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6"/>
          <p:cNvSpPr/>
          <p:nvPr/>
        </p:nvSpPr>
        <p:spPr>
          <a:xfrm>
            <a:off x="5104080" y="6087960"/>
            <a:ext cx="1248840" cy="528120"/>
          </a:xfrm>
          <a:custGeom>
            <a:avLst/>
            <a:gdLst>
              <a:gd name="textAreaLeft" fmla="*/ 34200 w 1248840"/>
              <a:gd name="textAreaRight" fmla="*/ 1214640 w 1248840"/>
              <a:gd name="textAreaTop" fmla="*/ 34200 h 528120"/>
              <a:gd name="textAreaBottom" fmla="*/ 493920 h 528120"/>
            </a:gdLst>
            <a:ahLst/>
            <a:rect l="textAreaLeft" t="textAreaTop" r="textAreaRight" b="textAreaBottom"/>
            <a:pathLst>
              <a:path w="51057" h="21600">
                <a:moveTo>
                  <a:pt x="0" y="0"/>
                </a:moveTo>
                <a:lnTo>
                  <a:pt x="51057" y="0"/>
                </a:lnTo>
                <a:lnTo>
                  <a:pt x="51057" y="21600"/>
                </a:lnTo>
                <a:lnTo>
                  <a:pt x="0" y="21600"/>
                </a:lnTo>
                <a:close/>
              </a:path>
              <a:path fill="lightenLess" w="51057" h="21600">
                <a:moveTo>
                  <a:pt x="0" y="0"/>
                </a:moveTo>
                <a:lnTo>
                  <a:pt x="51057" y="0"/>
                </a:lnTo>
                <a:lnTo>
                  <a:pt x="49657" y="1400"/>
                </a:lnTo>
                <a:lnTo>
                  <a:pt x="1400" y="1400"/>
                </a:lnTo>
                <a:close/>
              </a:path>
              <a:path fill="darken" w="51057" h="21600">
                <a:moveTo>
                  <a:pt x="51057" y="0"/>
                </a:moveTo>
                <a:lnTo>
                  <a:pt x="51057" y="21600"/>
                </a:lnTo>
                <a:lnTo>
                  <a:pt x="49657" y="20200"/>
                </a:lnTo>
                <a:lnTo>
                  <a:pt x="49657" y="1400"/>
                </a:lnTo>
                <a:close/>
              </a:path>
              <a:path fill="darkenLess" w="51057" h="21600">
                <a:moveTo>
                  <a:pt x="510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657" y="20200"/>
                </a:lnTo>
                <a:close/>
              </a:path>
              <a:path fill="lighten" w="510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in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7">
            <a:hlinkClick r:id="" action="ppaction://hlinkshowjump?jump=nextslide"/>
          </p:cNvPr>
          <p:cNvSpPr/>
          <p:nvPr/>
        </p:nvSpPr>
        <p:spPr>
          <a:xfrm>
            <a:off x="7844400" y="6012000"/>
            <a:ext cx="1069200" cy="528120"/>
          </a:xfrm>
          <a:custGeom>
            <a:avLst/>
            <a:gdLst>
              <a:gd name="textAreaLeft" fmla="*/ 34200 w 1069200"/>
              <a:gd name="textAreaRight" fmla="*/ 1035000 w 1069200"/>
              <a:gd name="textAreaTop" fmla="*/ 34200 h 528120"/>
              <a:gd name="textAreaBottom" fmla="*/ 493920 h 528120"/>
            </a:gdLst>
            <a:ahLst/>
            <a:rect l="textAreaLeft" t="textAreaTop" r="textAreaRight" b="textAreaBottom"/>
            <a:pathLst>
              <a:path w="43715" h="21600">
                <a:moveTo>
                  <a:pt x="0" y="0"/>
                </a:moveTo>
                <a:lnTo>
                  <a:pt x="43715" y="0"/>
                </a:lnTo>
                <a:lnTo>
                  <a:pt x="43715" y="21600"/>
                </a:lnTo>
                <a:lnTo>
                  <a:pt x="0" y="21600"/>
                </a:lnTo>
                <a:close/>
              </a:path>
              <a:path fill="lightenLess" w="43715" h="21600">
                <a:moveTo>
                  <a:pt x="0" y="0"/>
                </a:moveTo>
                <a:lnTo>
                  <a:pt x="43715" y="0"/>
                </a:lnTo>
                <a:lnTo>
                  <a:pt x="42315" y="1400"/>
                </a:lnTo>
                <a:lnTo>
                  <a:pt x="1400" y="1400"/>
                </a:lnTo>
                <a:close/>
              </a:path>
              <a:path fill="darken" w="43715" h="21600">
                <a:moveTo>
                  <a:pt x="43715" y="0"/>
                </a:moveTo>
                <a:lnTo>
                  <a:pt x="43715" y="21600"/>
                </a:lnTo>
                <a:lnTo>
                  <a:pt x="42315" y="20200"/>
                </a:lnTo>
                <a:lnTo>
                  <a:pt x="42315" y="1400"/>
                </a:lnTo>
                <a:close/>
              </a:path>
              <a:path fill="darkenLess" w="43715" h="21600">
                <a:moveTo>
                  <a:pt x="437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315" y="20200"/>
                </a:lnTo>
                <a:close/>
              </a:path>
              <a:path fill="lighten" w="437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715" h="21600">
                <a:moveTo>
                  <a:pt x="14851" y="3794"/>
                </a:moveTo>
                <a:lnTo>
                  <a:pt x="28864" y="10800"/>
                </a:lnTo>
                <a:lnTo>
                  <a:pt x="14851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-3200400" y="3048120"/>
          <a:ext cx="352440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00400" y="3048120"/>
                    <a:ext cx="352440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6" dur="1" fill="hold">
                                    <p:stCondLst>
                                      <p:cond evt="end">
                                        <p:tn val="42"/>
                                      </p:cond>
                                    </p:stCondLst>
                                  </p:cTn>
                                  <p:tgtEl>
                                    <p:spTgt spid="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ember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295280" y="2057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FAC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can be proven to be tru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OPINIO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is what someone believes -it cannot be proven true or fals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2T19:14:00Z</dcterms:created>
  <dc:creator>Instructional Technology</dc:creator>
  <dc:description/>
  <dc:language>en-US</dc:language>
  <cp:lastModifiedBy>teacher</cp:lastModifiedBy>
  <dcterms:modified xsi:type="dcterms:W3CDTF">2011-01-07T22:15:11Z</dcterms:modified>
  <cp:revision>6</cp:revision>
  <dc:subject/>
  <dc:title>Fact and Opinion</dc:title>
</cp:coreProperties>
</file>